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1221-02A2-4350-B7B2-75EDDC7AC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03D5-3F35-4880-8929-29A72AA9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AA8E-B63A-45E2-A48C-AC6B377A1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EE88-6E21-4673-AC06-434B2DBBE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9CAD-5C56-41AE-9B5B-89A8C68B9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C8C8-1382-47C1-A578-3613B69F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DB5C-568D-4802-94A1-34CE4FBF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8409-3722-4702-868B-9158A4CF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677F-9524-4D2C-BEB3-07FB1D4C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F547-074F-4509-9F22-8B2E456A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6BA4-FCA4-4882-BC97-D0026CA6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A19C-7DF8-4879-8B6F-99B9B93A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BC915-F077-4449-9A17-3B257689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0E5D-7514-48BD-861A-70654DF5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3E0D-A02E-42EE-A72E-31BABB50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77C20-9A03-4035-B4DF-B1001AFB4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33A26-F964-4EA9-A6F0-7D57DAE96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0F179D-CB71-40A0-AA9C-DABB5097C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452D36-6289-4613-8658-2509591D2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49EB53-52A6-4349-ADBA-017E8ACF1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4019F8-E59B-4A05-B16B-48F4ACB4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46B03F-E99E-4334-A59F-571F46BD5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9BEA-E071-49E1-8ADD-63E2DB1D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BD8DDB-43E8-4EC4-B0FE-9D6A719F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C1753E-E850-4464-819F-F77D3597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553589-F675-47E0-9A94-AD6C442F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A6F857-3584-4663-ACD7-51ACB6A7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7FD6A8-E1C2-4F7D-B302-3E0AFE5BD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46FC97-EC55-4FAA-BE42-DD3305E44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86CD6F-F2F2-4B75-BC5D-8F794108E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EBD35-8EE6-42D5-8232-EB9F15F90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8161A-D641-41E1-81A1-F0D6B653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A4672-D45B-4804-8BED-B812C639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DAA6-243B-4905-8BF2-C914B16D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EBC4C-E21E-4716-AD47-892D0030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751F8-E15D-419A-B128-ABF47298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80C77-A1D0-4183-94B5-DC277BA4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CF345-946B-4C6B-AADE-90F0C6EC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EAC99-1388-4255-A61A-2B9B3829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9862F-4035-489B-8523-EA1B5828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072FD-2F0A-4ED6-9720-54E444AF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636E5-93AC-41D5-9B47-BCCB4CD18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653D3-AC36-47E6-81A6-833F49F78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7314-4338-4502-83FC-529167BA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1B0E-89D9-44A3-B945-A98F9970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959B-2F2C-4E6D-A37B-0508BE46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102D-7EFA-4C2B-9FC6-0857BB04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6387-3BF2-4E5D-8D58-3F01D30F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53C3-D47E-463B-80E8-BA1F7F497A1C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FA83-34D2-437A-8214-859E94368D1E}" type="slidenum">
              <a:rPr b="0" lang="el-G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1722-3F2F-445F-9C0C-D1F234D0329A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1EDD-C44A-41D5-B456-347F7A75AA20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i-grafis.com/spaw2/uploads/images/dali1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ΠΟΙΗΜΑΤΑ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424242"/>
                </a:solidFill>
                <a:latin typeface="Arial"/>
                <a:ea typeface="Arial"/>
              </a:rPr>
              <a:t>Τρία Χαϊκού, Γ. Σεφέρης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IA</a:t>
            </a: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Εικόνα 1" descr=""/>
          <p:cNvPicPr/>
          <p:nvPr/>
        </p:nvPicPr>
        <p:blipFill>
          <a:blip r:embed="rId1"/>
          <a:srcRect l="19494" t="0" r="1949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Πού να μαζεύ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α χίλια κομματάκια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υ κάθε ανθρώπο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ΙΕ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Βουλιάζει ο κόσμο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κρατήσου, θα σ' αφήσε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μόνο στον ήλιο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         </a:t>
            </a:r>
            <a:br>
              <a:rPr sz="2500"/>
            </a:b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ΙΣΤ΄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Γράφ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 μελάνι λιγόστεψ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η θάλασσα πληθαίνε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 u="sng">
                <a:solidFill>
                  <a:srgbClr val="e68200"/>
                </a:solidFill>
                <a:uFillTx/>
                <a:latin typeface="Calibri"/>
                <a:hlinkClick r:id="rId1"/>
              </a:rPr>
              <a:t>http://www.peri-grafis.com/spaw2/uploads/images/dali18.jpg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23:45Z</dcterms:created>
  <dc:creator>ΓΙΩΡΓΟΣ   ΔΕΣΠΟΙΝΑ</dc:creator>
  <dc:description/>
  <dc:language>en-US</dc:language>
  <cp:lastModifiedBy>giorgos</cp:lastModifiedBy>
  <dcterms:modified xsi:type="dcterms:W3CDTF">2012-03-25T17:17:28Z</dcterms:modified>
  <cp:revision>3</cp:revision>
  <dc:subject/>
  <dc:title>(πίνακας του Νταλί)</dc:title>
</cp:coreProperties>
</file>